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4D87-BD9F-4694-BED1-9719E839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C6B6-3F12-464E-BEA3-692587D5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BA44-AB99-4361-8ACF-3B2C9AFC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5A1F-F3DA-41AC-989B-4627A93A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3757-EE6E-4283-BAD0-384E344E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A329-169D-4D56-A454-2744C719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8D0E-B75F-4995-9D39-AD339C04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D1A4-4292-4D43-BA84-72368C2A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2A67-6416-41A5-BC92-CA7F789E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0196-614E-4299-AFBA-731E24CA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2901-E6E2-4180-A294-42C618CA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5C6C-2586-4B03-AB81-C65C21B7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B50E-96B2-4F73-ACBF-67359B801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0388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Wave Technologies is a newly formed technology firm established to assist researchers and corporations advance their technologies to market. However, more importantly than providing just money, First Wave's model is to provide a complete management team that can partner with researchers to accelerate introduction of ideas into the hands of custo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51320" y="1523880"/>
            <a:ext cx="4792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7:02:03Z</dcterms:created>
  <dc:creator>PA Department of Education</dc:creator>
  <dc:description/>
  <dc:language>en-US</dc:language>
  <cp:lastModifiedBy>PA Department of Education</cp:lastModifiedBy>
  <dcterms:modified xsi:type="dcterms:W3CDTF">2009-05-21T17:30:52Z</dcterms:modified>
  <cp:revision>2</cp:revision>
  <dc:subject/>
  <dc:title>First wave</dc:title>
</cp:coreProperties>
</file>